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1F0-4F99-4657-B3C3-98719388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393264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5B6-7C20-4817-9F2A-C867E647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3368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D63-066A-4B84-AA25-51F3A507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948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968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948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968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9E9-874D-447A-B9FE-968CD6F0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A068-241C-438F-BD5F-B9837E19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0394-1D85-4F54-918C-AF756A33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0666-EF47-4CB5-AE8A-F90EA373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E3A6-F93E-49A8-A6DD-70DC4C8A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FD60-7EA6-4793-B3B1-70216A84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31D2-3FC4-46AC-AB07-204C4D87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1B0B-5FF5-4D4A-9D36-067687B1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B3D-603F-45A0-8296-7D46A568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368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F090-87A3-4589-8C62-78DCD8E3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393264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E999-CC0B-4260-A0B0-05E82905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393264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BD10-B236-49DD-B80F-26E0551A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3368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1DA8-F576-4C6C-9C98-13B79107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948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968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5948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968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0880-9A50-4D69-BBE3-6904EDE9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E1E-EF8F-4A04-98AF-B453C302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CB6-222F-44C3-89CB-F7EABEC8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CA9-AE0E-4628-BFA5-0EF5BF47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935-E7E7-4EF7-9D92-75BB6B13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685-2277-4C54-927E-24B8C885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3368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F47-37E3-4E1E-A8FB-166EB7A6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3368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393264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E0E-5F03-4FBB-8CEC-B395626E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616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6160"/>
            <a:ext cx="289584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2616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79AE-5366-48B5-B05D-03C95C66A6E8}" type="slidenum">
              <a: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760" y="2895120"/>
            <a:ext cx="38098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2616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6160"/>
            <a:ext cx="289584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2616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CC34-D681-4980-A33A-D224D23423CE}" type="slidenum">
              <a: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760" y="2895120"/>
            <a:ext cx="3809880" cy="9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保险学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657240"/>
            <a:ext cx="38098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张小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四节 保险的基本概念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  保险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险是以集中起来的保险费建立保险基金，用于对被保险人因灾害或意外事故造成的经济损失给予补偿，或对人身伤亡和丧失工作能力给予物质保障的一种制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四节 保险的基本概念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  保险的基本特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      特定风险和约定事件的存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      多数经济单位的结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三）      科学的计算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四）      保险权利和义务的对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  保险与类似活动的区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保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储蓄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济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赌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五节 保险的分类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按实施形式分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愿保险    和    法定保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按保险标的（对象）分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85800" y="3429000"/>
            <a:ext cx="5181480" cy="2971800"/>
            <a:chOff x="685800" y="3429000"/>
            <a:chExt cx="5181480" cy="2971800"/>
          </a:xfrm>
        </p:grpSpPr>
        <p:sp>
          <p:nvSpPr>
            <p:cNvPr id="118" name=""/>
            <p:cNvSpPr/>
            <p:nvPr/>
          </p:nvSpPr>
          <p:spPr>
            <a:xfrm>
              <a:off x="685800" y="3429000"/>
              <a:ext cx="5181480" cy="2971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080" y="3581280"/>
              <a:ext cx="2286000" cy="198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财产保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广义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5638680"/>
              <a:ext cx="22860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身保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00400" y="3581280"/>
              <a:ext cx="2590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财产保险（狭义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00400" y="4267080"/>
              <a:ext cx="2590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责任保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4952880"/>
              <a:ext cx="2590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信用保证保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0400" y="5638680"/>
              <a:ext cx="2590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身保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943600" y="5638680"/>
            <a:ext cx="609480" cy="457200"/>
          </a:xfrm>
          <a:custGeom>
            <a:avLst/>
            <a:gdLst>
              <a:gd name="textAreaLeft" fmla="*/ 142920 w 609480"/>
              <a:gd name="textAreaRight" fmla="*/ 466560 w 609480"/>
              <a:gd name="textAreaTop" fmla="*/ 100080 h 457200"/>
              <a:gd name="textAreaBottom" fmla="*/ 3571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4725"/>
                </a:moveTo>
                <a:lnTo>
                  <a:pt x="12600" y="4725"/>
                </a:lnTo>
                <a:lnTo>
                  <a:pt x="12600" y="0"/>
                </a:lnTo>
                <a:lnTo>
                  <a:pt x="21600" y="10800"/>
                </a:lnTo>
                <a:lnTo>
                  <a:pt x="12600" y="21600"/>
                </a:lnTo>
                <a:lnTo>
                  <a:pt x="12600" y="16875"/>
                </a:lnTo>
                <a:lnTo>
                  <a:pt x="0" y="16875"/>
                </a:lnTo>
                <a:lnTo>
                  <a:pt x="5063" y="10800"/>
                </a:lnTo>
                <a:lnTo>
                  <a:pt x="0" y="4725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5105520"/>
            <a:ext cx="1676520" cy="1371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寿保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意外伤害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健康保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5562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6019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五节 保险的分类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财产保险和人身保险的比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04920" y="1828800"/>
          <a:ext cx="8381520" cy="4495320"/>
        </p:xfrm>
        <a:graphic>
          <a:graphicData uri="http://schemas.openxmlformats.org/drawingml/2006/table">
            <a:tbl>
              <a:tblPr/>
              <a:tblGrid>
                <a:gridCol w="1494000"/>
                <a:gridCol w="3401640"/>
                <a:gridCol w="3485880"/>
              </a:tblGrid>
              <a:tr h="69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财产保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身保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赔付性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以财产的实际价值和实际损失为依据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按双方事先约定金额给付保险金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8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保险性质和经营技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所保风险规律性不强，故保险经营上需保持较高现金准备，再保险运用很重要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所保风险规律性较强，现金准备需要较少，保险经营较为稳定，再保险重要性较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保险期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多属短期保险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多属中长期保险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8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保险费率的构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费率以过去的财产保险损失统计资料为依据，保费主要用于损失补偿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费率以人的死亡率和利率等为依据。多数人身保险含有储蓄因素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按经营目的分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保险   和   商业保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按保险人责任次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保险   和    再保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保险的相关概念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保险深度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个国家的保险费收入占其国民生产总值的比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保险密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人均保费数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28800" y="2743200"/>
                <a:ext cx="4419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保险深度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保费收入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国民生产总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057400" y="4952880"/>
                <a:ext cx="35053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保费密度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保费收入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总人口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1219320"/>
          <a:ext cx="3695760" cy="5155920"/>
        </p:xfrm>
        <a:graphic>
          <a:graphicData uri="http://schemas.openxmlformats.org/drawingml/2006/table">
            <a:tbl>
              <a:tblPr/>
              <a:tblGrid>
                <a:gridCol w="927000"/>
                <a:gridCol w="1384200"/>
                <a:gridCol w="1384560"/>
              </a:tblGrid>
              <a:tr h="583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9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世界保险密度（美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保险密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瑞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64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90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英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4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92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爱尔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5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全球平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87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572000" y="1295280"/>
          <a:ext cx="4038480" cy="5105520"/>
        </p:xfrm>
        <a:graphic>
          <a:graphicData uri="http://schemas.openxmlformats.org/drawingml/2006/table">
            <a:tbl>
              <a:tblPr/>
              <a:tblGrid>
                <a:gridCol w="1107720"/>
                <a:gridCol w="1584360"/>
                <a:gridCol w="1346400"/>
              </a:tblGrid>
              <a:tr h="549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9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世界保险深度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保险深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南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英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瑞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韩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全球平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2003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年全国保险数据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066680"/>
          <a:ext cx="3886200" cy="5486400"/>
        </p:xfrm>
        <a:graphic>
          <a:graphicData uri="http://schemas.openxmlformats.org/drawingml/2006/table">
            <a:tbl>
              <a:tblPr/>
              <a:tblGrid>
                <a:gridCol w="762120"/>
                <a:gridCol w="1066680"/>
                <a:gridCol w="2057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保险密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[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元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全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160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39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44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浙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6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江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17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广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7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辽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35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福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4.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新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321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黑龙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1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724280" y="1066680"/>
          <a:ext cx="3810240" cy="5486400"/>
        </p:xfrm>
        <a:graphic>
          <a:graphicData uri="http://schemas.openxmlformats.org/drawingml/2006/table">
            <a:tbl>
              <a:tblPr/>
              <a:tblGrid>
                <a:gridCol w="838440"/>
                <a:gridCol w="1218960"/>
                <a:gridCol w="17528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保险深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[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全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山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新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  <a:ea typeface="宋体"/>
                        </a:rPr>
                        <a:t>3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陕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江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辽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云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保险的相关概念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1143000"/>
          <a:ext cx="8457840" cy="5333760"/>
        </p:xfrm>
        <a:graphic>
          <a:graphicData uri="http://schemas.openxmlformats.org/drawingml/2006/table">
            <a:tbl>
              <a:tblPr/>
              <a:tblGrid>
                <a:gridCol w="1204200"/>
                <a:gridCol w="1324080"/>
                <a:gridCol w="1204560"/>
                <a:gridCol w="1204200"/>
                <a:gridCol w="1202760"/>
                <a:gridCol w="1113840"/>
                <a:gridCol w="1204200"/>
              </a:tblGrid>
              <a:tr h="1062000"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保费收入（亿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保费收入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增长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新疆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DP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亿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新疆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GDP</a:t>
                      </a:r>
                      <a:br>
                        <a:rPr sz="1400"/>
                      </a:b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增长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保险密度（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保险深度（％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2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.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.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1.5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1.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1.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.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71.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4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1.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.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2.0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8.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.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.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2.8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0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8.5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3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3.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0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7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6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.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.4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6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.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1.2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7.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.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0.0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保险的相关概念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523880"/>
          <a:ext cx="815328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3880"/>
                    <a:ext cx="8153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6019920" cy="91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章    风险与保险</a:t>
            </a:r>
            <a:endParaRPr b="1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90760" y="3657240"/>
            <a:ext cx="38098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保险的相关概念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1" name="Snap1" descr=""/>
          <p:cNvPicPr/>
          <p:nvPr/>
        </p:nvPicPr>
        <p:blipFill>
          <a:blip r:embed="rId2"/>
          <a:stretch/>
        </p:blipFill>
        <p:spPr>
          <a:xfrm>
            <a:off x="380880" y="111600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保险的相关概念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54" name="Snap2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769608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一节  风险及其特征与类型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风险的基本概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一）风险的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风险分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纯粹风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和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投机风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2971800"/>
            <a:ext cx="4038840" cy="91440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损失的不确定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一节  风险及其特征与类型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二） 风险因素、风险事故和损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2590920"/>
            <a:ext cx="3200400" cy="7617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潜在的、可能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3657600"/>
            <a:ext cx="3124440" cy="7621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损失的直接原因或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4724280"/>
            <a:ext cx="3124440" cy="7621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价值的减少、人身的伤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66688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风险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73392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风险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724280"/>
            <a:ext cx="266688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风险损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一节  风险及其特征与类型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  风险的基本属性与特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风险的属性分为：自然属性 和 社会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   风险存在的客观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   风险存在的永恒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   具体风险发生的偶然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   大量风险发生的必然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一节  风险及其特征与类型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、  风险的分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 按损失产生的原因分类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自然风险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为风险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 按风险的潜在损失形态分类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财产风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责任风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信用风险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人身风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 按风险事故的后果分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投机风险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纯粹风险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四） 按风险能否处理分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处理风险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可处理风险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风险管理的基本概念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  风险管理的概念与意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风险管理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风险管理是研究风险发生规律和风险控制技术的一门新兴管理科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 风险管理的意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经济意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社会意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风险管理的基本概念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 风险管理的目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损前目标    和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损后目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风险管理的基本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3429000"/>
            <a:ext cx="3353040" cy="914400"/>
          </a:xfrm>
          <a:prstGeom prst="downArrowCallout">
            <a:avLst>
              <a:gd name="adj1" fmla="val 120510"/>
              <a:gd name="adj2" fmla="val 91673"/>
              <a:gd name="adj3" fmla="val 23958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险识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4419720"/>
            <a:ext cx="3353040" cy="914400"/>
          </a:xfrm>
          <a:prstGeom prst="downArrowCallout">
            <a:avLst>
              <a:gd name="adj1" fmla="val 120510"/>
              <a:gd name="adj2" fmla="val 91673"/>
              <a:gd name="adj3" fmla="val 23958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险衡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5410080"/>
            <a:ext cx="33530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险评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节 风险处理的基本方法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  风险控制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风险避免    （二）风险防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三）风险分离    （四）风险分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  风险的财务处理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      风险自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      风险转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0:07:59Z</dcterms:created>
  <dc:creator>craig</dc:creator>
  <dc:description/>
  <dc:language>en-US</dc:language>
  <cp:lastModifiedBy>Lenovo User</cp:lastModifiedBy>
  <dcterms:modified xsi:type="dcterms:W3CDTF">2005-09-08T04:28:34Z</dcterms:modified>
  <cp:revision>29</cp:revision>
  <dc:subject/>
  <dc:title>e-Business</dc:title>
</cp:coreProperties>
</file>